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a:rPr>
              <a:t>INTEGRATED ACADEMIC STUDIES OF MEDICINE</a:t>
            </a:r>
            <a:br>
              <a:rPr sz="2400"/>
            </a:br>
            <a:br>
              <a:rPr sz="2800"/>
            </a:b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a:t>
            </a:r>
            <a:r>
              <a:rPr b="0" lang="en-US" sz="2800" spc="-1" strike="noStrike">
                <a:solidFill>
                  <a:srgbClr val="000000"/>
                </a:solidFill>
                <a:latin typeface="Arial"/>
              </a:rPr>
              <a:t>: Englis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a:t>
            </a:r>
            <a:r>
              <a:rPr b="0" lang="en-US" sz="2800" spc="-1" strike="noStrike">
                <a:solidFill>
                  <a:srgbClr val="000000"/>
                </a:solidFill>
                <a:latin typeface="Arial"/>
              </a:rPr>
              <a:t>: Dusica Obradov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ine as a Science</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ine (Latin medicus, “physician”), is the science and art of diagnosing, treating and preventing disease and injury. Its goals are to help people to live longer, happier, more active lives with less suffering and disability. Medicine goes beyond the bedside of patients. Medical scientists engage in a constant search for new drugs, effective treatments, and more advanced technolog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significant notions from the field of medicine were given by old Greeks. The Greeks not only made substantial progress in understanding the cosmos but also went far beyond their predecessors in their knowledge of the human body. Pre-Greek medicine had been almost entirely confined to religion and ritua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itia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a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lect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u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li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being</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medic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its goa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gave the first notions in medic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as disease treated in ancient tim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ere Hippocrates and his pupils important in the development of medic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was Galen of Pergam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id modern medicine beg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weapons were developed to fight disease effective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job of a physici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medicine represent nowaday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he correct answer:</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eclectic?”</a:t>
            </a:r>
            <a:endParaRPr b="0" lang="en-US" sz="2000" spc="-1" strike="noStrike">
              <a:solidFill>
                <a:srgbClr val="000000"/>
              </a:solidFill>
              <a:latin typeface="Arial"/>
            </a:endParaRPr>
          </a:p>
          <a:p>
            <a:pPr marL="343080" indent="-34308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row   b) one-sided   c) comprehensive  d) sa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substantial?”</a:t>
            </a:r>
            <a:endParaRPr b="0" lang="en-US" sz="2000" spc="-1" strike="noStrike">
              <a:solidFill>
                <a:srgbClr val="000000"/>
              </a:solidFill>
              <a:latin typeface="Arial"/>
            </a:endParaRPr>
          </a:p>
          <a:p>
            <a:pPr marL="343080" indent="-34308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b) considerable  c) insignificant   d) volatil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striking?”</a:t>
            </a:r>
            <a:endParaRPr b="0" lang="en-US" sz="2000" spc="-1" strike="noStrike">
              <a:solidFill>
                <a:srgbClr val="000000"/>
              </a:solidFill>
              <a:latin typeface="Arial"/>
            </a:endParaRPr>
          </a:p>
          <a:p>
            <a:pPr marL="343080" indent="-34308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b) ordinary     c) unexceptional   d) impress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underlying?”</a:t>
            </a:r>
            <a:endParaRPr b="0" lang="en-US" sz="2000" spc="-1" strike="noStrike">
              <a:solidFill>
                <a:srgbClr val="000000"/>
              </a:solidFill>
              <a:latin typeface="Arial"/>
            </a:endParaRPr>
          </a:p>
          <a:p>
            <a:pPr marL="343080" indent="-34308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ssential    b) basic    c) complex     d) unnecess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divi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dlike    b) natural    c) earthly     d) material</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adjectives from the following noun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tri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correct preposition in the following sentence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ientists engage.........a constant search........new drugs, effective treatments, etc.</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reek medicine had been almost entirely confined...........religion and ritua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ase was dealt.............by spells, prayers and other propitiatory measures in the ancient worl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aladies were held to originate..............natural causes...........the bod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len of Pergamum based his physiology...............his own dissections of apes and pig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ppocrates relied primarily..............simple, clean living and the ability of the body to heal itself.</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medicine came to refer.............the aggregate of scientific </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539280" y="1413000"/>
            <a:ext cx="8147160" cy="5400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s related.............prevention and treatment of disease as well as maintenance of health.</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iscoveries in medicine have had a huge impact...............human well-being.</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ians check the patient’s medical history..............past symptoms or diseas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care professionals must apply their abilities.............imaginative way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5"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ine – nowaday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medicine – yes or n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opathy as a branch of medici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06T22:19:52Z</dcterms:modified>
  <cp:revision>46</cp:revision>
  <dc:subject/>
  <dc:title>Slide 1</dc:title>
</cp:coreProperties>
</file>